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A9E-A432-4A4E-8869-1FB5B998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241-48D4-4756-82EF-AF4890C1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834-EE42-4D2F-AA63-7A6591D1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767-5D43-4277-BCB2-9057755B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B263-A890-4562-8522-1B61A177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774E-F3D1-4659-A6BC-E3C0A027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DA27-5640-4E34-8C0C-053AF307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4A4F-5996-40F5-9557-1FDEC6AF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10D5-6921-468C-AF0E-E658AF1E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E947-81F3-4E02-8D8E-D3BAFFCB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88D9-65F1-4CC5-B8F7-6926466D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CA8-B03B-4CF2-9B18-441036C7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650A-2AF9-4C71-8A53-F950A4AA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87B0-C885-4EF1-A7B4-61DD4BA9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071D-6DA5-4507-8FC9-BB08D2B5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2008-3792-4A96-B9B0-99369E96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693D-6571-4657-8196-3A4C42DE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EB7-9EF1-4217-832A-DA559F2D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715-94E4-4DBB-8054-8574D2FD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166-4AB3-49F3-98BD-789A41E2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D67-0B1B-44EB-910E-9F6A8DF4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47B-DCA7-4B58-AD0E-BDB4BDB2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371-D611-43B1-9DB0-A46668F0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A89-30CE-4513-92D1-711EF5CC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7A18-DCAD-418B-992F-17728F27A40D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B9E6-9D01-43B7-AB2B-127F916A1DEB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المعرّف بـ (ال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03280" y="2636640"/>
            <a:ext cx="6400800" cy="35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سم اتصلت به ((ال)) فأَفادته التعريف. وهي قسمان ((ال)) العهدية، و((ال)) الجنسية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</a:rPr>
              <a:t>((ال)) العهدية: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إذا اتصلت بنكرة صارت معرفة دالة على معين مثل (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</a:rPr>
              <a:t>أَكرم الرجلَ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)، فحين تقول (أَكرم رجلاً) لم تحدد لمخاطبك فرداً بعينه، ولكنك في قولك (أَكرم الرجل) قد عينت له من تريد وهو المعروف عند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والعهد يكون ذكرياً إِذا سبق للمعهود ذكر في الكلام كقوله تعالى: 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</a:rPr>
              <a:t>{إِنّا أَرْسَلْنا إِلَيْكُمْ رَسُولاً شاهِداً عَلَيْكُمْ كَما أَرْسَلْنا إِلَى فِرْعَوْنَ رَسُولاً، فَعَصَى فِرْعَوْنُ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الرَّسُولَ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ويكون ذهنياً إِذا كان ملحوظاً في أَذهان المخاطبين مثل: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{إِذْ يُبايِعُونَكَ تَحْتَ 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</a:rPr>
              <a:t>الشَّجَرَةِ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}.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يكون حضورياً إِذا كان مصحوبها حاضراً مثل: {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</a:rPr>
              <a:t>الْيَوْمَ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أَكْمَلْتُ لَكُمْ دِينَكُمْ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} أَي في هذا اليوم الذي أَنتم في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(ال)) الجنسية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 algn="r" rtl="1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((ال)) الجنسية: وهي الداخلة على اسم لا يراد به معين، بل فرد من أفراد الجنس مثل قوله تعالى: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</a:rPr>
              <a:t>{خُلِقَ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</a:rPr>
              <a:t>الإِنْسانُ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</a:rPr>
              <a:t> مِنْ عَجَلٍ}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وهي إِما أَن ترادف كلمة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</a:rPr>
              <a:t>(كل)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حقيقة كالمثال السابق: خلق كل إِنسان من عجل، فتشمل كل أَفراد الجن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r" rtl="1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وإِما أَن ترادف كلمة (كل) مجازاً فتشمل كل خصائص الجنس وتفيد المبالغة مثل: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</a:rPr>
              <a:t>أَنت الإِنسان حقا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692280"/>
            <a:ext cx="8134200" cy="55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والتعريف في ((ال)) العهدي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0033"/>
                </a:solidFill>
                <a:latin typeface="Times New Roman"/>
              </a:rPr>
              <a:t>حقيقي لفظاً ومعنًى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وفي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((ال)) الجنسي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</a:rPr>
              <a:t>لفظي فقط فما دخلت عليه معرفة لفظاً نكرة معنى،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ولذا كانت الجملة بعد المعرف بـ (ال) العهدية حالية دائماً لأَن صاحبها معرفة محضة: (رأَيت الأَمير يعلو جواده)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الجملة بعد المعرف بـ((ال)) الجنسية يجوز أن تكون حالاً مراعاة للفظ وأَن تكون صفة مراعاة للمعنى مثل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</a:rPr>
              <a:t>ولقد أَمرُّ على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اللئيم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</a:rPr>
              <a:t> يسبني     فمضيْتُ ثُمَّتَ قلت: لا يعنين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33"/>
                </a:solidFill>
                <a:latin typeface="Times New Roman"/>
              </a:rPr>
              <a:t>ملاحظ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هناك ((ال)) زائدة غير معرِّفة، وتكون لازمة وغير لاز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33"/>
                </a:solidFill>
                <a:latin typeface="Times New Roman"/>
              </a:rPr>
              <a:t>فاللاز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هي التي في أول الأعلام المرتجلة مثل لفظ الجلالة (الله) والسموأل واللات والعُزّى، أَو في أول الأسماء الموصولة مثل الذي، التي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33"/>
                </a:solidFill>
                <a:latin typeface="Times New Roman"/>
              </a:rPr>
              <a:t>وغير اللاز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هي التي وردت شذوذً كقولهم: (ادخلوا الأولَ فالأَولَ، جاؤوا الجماءَ الغفير، فـ (الأول) و(الجماء) وقعتا حالاً، والحال دائماً نكرة أو في معنى النكر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أو التي سمع زيادتها في أول الأعلام المنقولة عن صفة مثل العباس والحارث والحسن والحسين والضحاك، أو عن مصدر مثل الفضل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c66"/>
                </a:solidFill>
                <a:latin typeface="Times New Roman"/>
              </a:rPr>
              <a:t>سادسا: المضاف إلى معرفة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33"/>
                </a:solidFill>
                <a:latin typeface="Times New Roman"/>
              </a:rPr>
              <a:t>المضاف إلى معرف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إذا أَضيفت النكرة إلى أحد المعرفات الخمسة السابقة اكتسبت التعريف بهذه الإضافة وإليك أمثلتها بالترتيب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كتابك الجميل عندي - </a:t>
            </a:r>
            <a:r>
              <a:rPr b="0" lang="hi-IN" sz="3200" spc="-1" strike="noStrike">
                <a:solidFill>
                  <a:srgbClr val="ff9900"/>
                </a:solidFill>
                <a:latin typeface="Times New Roman"/>
              </a:rPr>
              <a:t>كتابُ خالد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- كتابُ هذا - </a:t>
            </a:r>
            <a:r>
              <a:rPr b="0" lang="hi-IN" sz="3200" spc="-1" strike="noStrike">
                <a:solidFill>
                  <a:srgbClr val="ff9900"/>
                </a:solidFill>
                <a:latin typeface="Times New Roman"/>
              </a:rPr>
              <a:t>كتابُ الذي سافر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- كتابُ الأَمي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c66"/>
                </a:solidFill>
                <a:latin typeface="Times New Roman"/>
              </a:rPr>
              <a:t>الخلاصة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تنقسم الأسماء إلى نكرة ومعرف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والمعرفة من الأسماء ستة أقسام  هي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- الضمائ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- الأعلا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- أسماء الإشار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- الأسماء الموصول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- المعرف بأ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- ما أضيف إلى واحد من المعارف السابق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3:38:33Z</dcterms:created>
  <dc:creator>mohammad</dc:creator>
  <dc:description/>
  <dc:language>en-US</dc:language>
  <cp:lastModifiedBy>mohammad</cp:lastModifiedBy>
  <dcterms:modified xsi:type="dcterms:W3CDTF">2006-11-07T14:14:22Z</dcterms:modified>
  <cp:revision>3</cp:revision>
  <dc:subject/>
  <dc:title>المعرّف بـ (ال)</dc:title>
</cp:coreProperties>
</file>